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move the slide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A9B3-34EA-4F81-8213-1B31BDDB9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1510-27AD-4B34-A82A-CA9BF096D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ws the first missionary journey of Paul as described in Acts chapters 13 and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B1D-31C1-45DB-BAA4-DCB98F74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EA6-1F79-48F1-BD2B-F0479974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58D5-0AD9-4B31-BF95-5927901A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F0F-5DA3-4E61-B4B0-EB0175DD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5A4C-8F48-483A-8A8F-8DBAC4E6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9DE6-944E-474A-B79D-B03A2586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16EC-6DA9-4B12-A120-49010CFB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9E7D-9C10-4858-BBCC-E93E00E2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B6FB-262E-4A4C-93D8-14F7B6AA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98E3-CB8F-45EB-82A4-0AB2FBAF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2C93-08D2-4192-A5EA-01D42E8D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A28-63E5-4A76-9EFB-C739DC64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08DD-2F24-467E-B94F-1154EF07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5A59-2B9A-460E-912F-CB48E951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6D47-25AE-4B6B-9C0C-02A0EFEF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B5B5-1F97-4960-A6C5-15AAF21A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E200-87FE-46FF-AD2F-DC7F9436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6B0-5069-4A0E-B38D-38BD2E98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5A2-24C7-4D2B-9CAF-CE61775D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F7C-8193-4CB6-A95B-C3022AEF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651-48BA-4E7B-92B5-34F14397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CB6-07A4-48E9-A3F8-7C1A6B96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071-20A9-4A89-8F1A-E9FBD7E3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B49-D325-4A11-A715-D8780BC9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0320" y="6033960"/>
            <a:ext cx="7531200" cy="290520"/>
            <a:chOff x="760320" y="6033960"/>
            <a:chExt cx="7531200" cy="290520"/>
          </a:xfrm>
        </p:grpSpPr>
        <p:sp>
          <p:nvSpPr>
            <p:cNvPr id="1" name=""/>
            <p:cNvSpPr/>
            <p:nvPr/>
          </p:nvSpPr>
          <p:spPr>
            <a:xfrm>
              <a:off x="760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03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6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89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332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75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18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523880" y="6059520"/>
              <a:ext cx="284400" cy="264960"/>
              <a:chOff x="1523880" y="6059520"/>
              <a:chExt cx="284400" cy="264960"/>
            </a:xfrm>
          </p:grpSpPr>
          <p:sp>
            <p:nvSpPr>
              <p:cNvPr id="9" name=""/>
              <p:cNvSpPr/>
              <p:nvPr/>
            </p:nvSpPr>
            <p:spPr>
              <a:xfrm>
                <a:off x="16178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85880" y="6188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23880" y="61912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666880" y="6046920"/>
              <a:ext cx="284400" cy="264960"/>
              <a:chOff x="2666880" y="6046920"/>
              <a:chExt cx="284400" cy="264960"/>
            </a:xfrm>
          </p:grpSpPr>
          <p:sp>
            <p:nvSpPr>
              <p:cNvPr id="13" name=""/>
              <p:cNvSpPr/>
              <p:nvPr/>
            </p:nvSpPr>
            <p:spPr>
              <a:xfrm>
                <a:off x="2760840" y="60469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28880" y="61754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666880" y="61786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3835440" y="6059520"/>
              <a:ext cx="284040" cy="264960"/>
              <a:chOff x="3835440" y="6059520"/>
              <a:chExt cx="284040" cy="264960"/>
            </a:xfrm>
          </p:grpSpPr>
          <p:sp>
            <p:nvSpPr>
              <p:cNvPr id="17" name=""/>
              <p:cNvSpPr/>
              <p:nvPr/>
            </p:nvSpPr>
            <p:spPr>
              <a:xfrm>
                <a:off x="39290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97440" y="618804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835440" y="61912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4952880" y="6033960"/>
              <a:ext cx="284400" cy="265320"/>
              <a:chOff x="4952880" y="6033960"/>
              <a:chExt cx="284400" cy="265320"/>
            </a:xfrm>
          </p:grpSpPr>
          <p:sp>
            <p:nvSpPr>
              <p:cNvPr id="21" name=""/>
              <p:cNvSpPr/>
              <p:nvPr/>
            </p:nvSpPr>
            <p:spPr>
              <a:xfrm>
                <a:off x="5046840" y="603396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114880" y="61628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16572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61898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578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5880" y="6165720"/>
              <a:ext cx="13356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454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134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251840" y="616572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7DA8-300F-43E1-A685-1418A71CBF45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A89D-2A6A-44F2-A91C-7A732AA2C931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542880"/>
            <a:ext cx="7530840" cy="3191040"/>
            <a:chOff x="684360" y="542880"/>
            <a:chExt cx="7530840" cy="3191040"/>
          </a:xfrm>
        </p:grpSpPr>
        <p:grpSp>
          <p:nvGrpSpPr>
            <p:cNvPr id="76" name=""/>
            <p:cNvGrpSpPr/>
            <p:nvPr/>
          </p:nvGrpSpPr>
          <p:grpSpPr>
            <a:xfrm>
              <a:off x="684360" y="3443400"/>
              <a:ext cx="7530840" cy="290520"/>
              <a:chOff x="684360" y="3443400"/>
              <a:chExt cx="7530840" cy="290520"/>
            </a:xfrm>
          </p:grpSpPr>
          <p:sp>
            <p:nvSpPr>
              <p:cNvPr id="77" name=""/>
              <p:cNvSpPr/>
              <p:nvPr/>
            </p:nvSpPr>
            <p:spPr>
              <a:xfrm>
                <a:off x="684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7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70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13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56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99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42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447920" y="3468600"/>
                <a:ext cx="284040" cy="265320"/>
                <a:chOff x="1447920" y="3468600"/>
                <a:chExt cx="284040" cy="265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415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0956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447920" y="3600360"/>
                  <a:ext cx="13320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590920" y="3456000"/>
                <a:ext cx="284040" cy="264960"/>
                <a:chOff x="2590920" y="3456000"/>
                <a:chExt cx="284040" cy="2649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84520" y="34560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752560" y="35845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90920" y="35877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59120" y="3468600"/>
                <a:ext cx="284400" cy="265320"/>
                <a:chOff x="3759120" y="3468600"/>
                <a:chExt cx="284400" cy="265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527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112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59120" y="3600360"/>
                  <a:ext cx="13356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76920" y="3443400"/>
                <a:ext cx="284040" cy="264960"/>
                <a:chOff x="4876920" y="3443400"/>
                <a:chExt cx="284040" cy="264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70520" y="34434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8560" y="35719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76920" y="35751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61135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81560" y="357192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91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7520" y="357192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55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73440" y="542880"/>
              <a:ext cx="1798560" cy="1363680"/>
              <a:chOff x="3673440" y="542880"/>
              <a:chExt cx="1798560" cy="1363680"/>
            </a:xfrm>
          </p:grpSpPr>
          <p:sp>
            <p:nvSpPr>
              <p:cNvPr id="107" name=""/>
              <p:cNvSpPr/>
              <p:nvPr/>
            </p:nvSpPr>
            <p:spPr>
              <a:xfrm>
                <a:off x="4233960" y="542880"/>
                <a:ext cx="677880" cy="897120"/>
              </a:xfrm>
              <a:custGeom>
                <a:avLst/>
                <a:gdLst/>
                <a:ahLst/>
                <a:rect l="l" t="t" r="r" b="b"/>
                <a:pathLst>
                  <a:path w="427" h="565">
                    <a:moveTo>
                      <a:pt x="213" y="564"/>
                    </a:moveTo>
                    <a:lnTo>
                      <a:pt x="147" y="531"/>
                    </a:lnTo>
                    <a:lnTo>
                      <a:pt x="93" y="486"/>
                    </a:lnTo>
                    <a:lnTo>
                      <a:pt x="57" y="444"/>
                    </a:lnTo>
                    <a:lnTo>
                      <a:pt x="27" y="396"/>
                    </a:lnTo>
                    <a:lnTo>
                      <a:pt x="15" y="363"/>
                    </a:lnTo>
                    <a:lnTo>
                      <a:pt x="3" y="333"/>
                    </a:lnTo>
                    <a:lnTo>
                      <a:pt x="0" y="288"/>
                    </a:lnTo>
                    <a:lnTo>
                      <a:pt x="0" y="252"/>
                    </a:lnTo>
                    <a:lnTo>
                      <a:pt x="9" y="216"/>
                    </a:lnTo>
                    <a:lnTo>
                      <a:pt x="24" y="177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78" y="96"/>
                    </a:lnTo>
                    <a:lnTo>
                      <a:pt x="114" y="60"/>
                    </a:lnTo>
                    <a:lnTo>
                      <a:pt x="165" y="24"/>
                    </a:lnTo>
                    <a:lnTo>
                      <a:pt x="165" y="27"/>
                    </a:lnTo>
                    <a:lnTo>
                      <a:pt x="213" y="0"/>
                    </a:lnTo>
                    <a:lnTo>
                      <a:pt x="249" y="18"/>
                    </a:lnTo>
                    <a:lnTo>
                      <a:pt x="282" y="39"/>
                    </a:lnTo>
                    <a:lnTo>
                      <a:pt x="315" y="63"/>
                    </a:lnTo>
                    <a:lnTo>
                      <a:pt x="312" y="63"/>
                    </a:lnTo>
                    <a:lnTo>
                      <a:pt x="342" y="90"/>
                    </a:lnTo>
                    <a:lnTo>
                      <a:pt x="369" y="123"/>
                    </a:lnTo>
                    <a:lnTo>
                      <a:pt x="390" y="153"/>
                    </a:lnTo>
                    <a:lnTo>
                      <a:pt x="408" y="189"/>
                    </a:lnTo>
                    <a:lnTo>
                      <a:pt x="420" y="222"/>
                    </a:lnTo>
                    <a:lnTo>
                      <a:pt x="420" y="225"/>
                    </a:lnTo>
                    <a:lnTo>
                      <a:pt x="426" y="264"/>
                    </a:lnTo>
                    <a:lnTo>
                      <a:pt x="426" y="306"/>
                    </a:lnTo>
                    <a:lnTo>
                      <a:pt x="417" y="348"/>
                    </a:lnTo>
                    <a:lnTo>
                      <a:pt x="402" y="393"/>
                    </a:lnTo>
                    <a:lnTo>
                      <a:pt x="378" y="432"/>
                    </a:lnTo>
                    <a:lnTo>
                      <a:pt x="354" y="465"/>
                    </a:lnTo>
                    <a:lnTo>
                      <a:pt x="324" y="492"/>
                    </a:lnTo>
                    <a:lnTo>
                      <a:pt x="297" y="516"/>
                    </a:lnTo>
                    <a:lnTo>
                      <a:pt x="255" y="543"/>
                    </a:lnTo>
                    <a:lnTo>
                      <a:pt x="237" y="552"/>
                    </a:lnTo>
                    <a:lnTo>
                      <a:pt x="213" y="564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428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6" y="301"/>
                    </a:moveTo>
                    <a:lnTo>
                      <a:pt x="83" y="324"/>
                    </a:lnTo>
                    <a:lnTo>
                      <a:pt x="152" y="335"/>
                    </a:lnTo>
                    <a:lnTo>
                      <a:pt x="207" y="336"/>
                    </a:lnTo>
                    <a:lnTo>
                      <a:pt x="263" y="330"/>
                    </a:lnTo>
                    <a:lnTo>
                      <a:pt x="297" y="322"/>
                    </a:lnTo>
                    <a:lnTo>
                      <a:pt x="328" y="314"/>
                    </a:lnTo>
                    <a:lnTo>
                      <a:pt x="364" y="295"/>
                    </a:lnTo>
                    <a:lnTo>
                      <a:pt x="392" y="278"/>
                    </a:lnTo>
                    <a:lnTo>
                      <a:pt x="415" y="255"/>
                    </a:lnTo>
                    <a:lnTo>
                      <a:pt x="436" y="228"/>
                    </a:lnTo>
                    <a:lnTo>
                      <a:pt x="458" y="191"/>
                    </a:lnTo>
                    <a:lnTo>
                      <a:pt x="455" y="192"/>
                    </a:lnTo>
                    <a:lnTo>
                      <a:pt x="464" y="158"/>
                    </a:lnTo>
                    <a:lnTo>
                      <a:pt x="470" y="119"/>
                    </a:lnTo>
                    <a:lnTo>
                      <a:pt x="466" y="72"/>
                    </a:lnTo>
                    <a:lnTo>
                      <a:pt x="463" y="74"/>
                    </a:lnTo>
                    <a:lnTo>
                      <a:pt x="454" y="33"/>
                    </a:lnTo>
                    <a:lnTo>
                      <a:pt x="418" y="20"/>
                    </a:lnTo>
                    <a:lnTo>
                      <a:pt x="380" y="10"/>
                    </a:lnTo>
                    <a:lnTo>
                      <a:pt x="341" y="3"/>
                    </a:lnTo>
                    <a:lnTo>
                      <a:pt x="343" y="4"/>
                    </a:lnTo>
                    <a:lnTo>
                      <a:pt x="303" y="0"/>
                    </a:lnTo>
                    <a:lnTo>
                      <a:pt x="260" y="0"/>
                    </a:lnTo>
                    <a:lnTo>
                      <a:pt x="224" y="1"/>
                    </a:lnTo>
                    <a:lnTo>
                      <a:pt x="185" y="8"/>
                    </a:lnTo>
                    <a:lnTo>
                      <a:pt x="151" y="16"/>
                    </a:lnTo>
                    <a:lnTo>
                      <a:pt x="149" y="18"/>
                    </a:lnTo>
                    <a:lnTo>
                      <a:pt x="115" y="33"/>
                    </a:lnTo>
                    <a:lnTo>
                      <a:pt x="82" y="53"/>
                    </a:lnTo>
                    <a:lnTo>
                      <a:pt x="55" y="78"/>
                    </a:lnTo>
                    <a:lnTo>
                      <a:pt x="30" y="108"/>
                    </a:lnTo>
                    <a:lnTo>
                      <a:pt x="15" y="141"/>
                    </a:lnTo>
                    <a:lnTo>
                      <a:pt x="4" y="171"/>
                    </a:lnTo>
                    <a:lnTo>
                      <a:pt x="2" y="202"/>
                    </a:lnTo>
                    <a:lnTo>
                      <a:pt x="0" y="229"/>
                    </a:lnTo>
                    <a:lnTo>
                      <a:pt x="6" y="267"/>
                    </a:lnTo>
                    <a:lnTo>
                      <a:pt x="10" y="281"/>
                    </a:lnTo>
                    <a:lnTo>
                      <a:pt x="16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454" y="301"/>
                    </a:moveTo>
                    <a:lnTo>
                      <a:pt x="387" y="325"/>
                    </a:lnTo>
                    <a:lnTo>
                      <a:pt x="318" y="335"/>
                    </a:lnTo>
                    <a:lnTo>
                      <a:pt x="263" y="336"/>
                    </a:lnTo>
                    <a:lnTo>
                      <a:pt x="207" y="331"/>
                    </a:lnTo>
                    <a:lnTo>
                      <a:pt x="173" y="322"/>
                    </a:lnTo>
                    <a:lnTo>
                      <a:pt x="142" y="315"/>
                    </a:lnTo>
                    <a:lnTo>
                      <a:pt x="106" y="295"/>
                    </a:lnTo>
                    <a:lnTo>
                      <a:pt x="78" y="278"/>
                    </a:lnTo>
                    <a:lnTo>
                      <a:pt x="55" y="256"/>
                    </a:lnTo>
                    <a:lnTo>
                      <a:pt x="34" y="229"/>
                    </a:lnTo>
                    <a:lnTo>
                      <a:pt x="12" y="191"/>
                    </a:lnTo>
                    <a:lnTo>
                      <a:pt x="15" y="193"/>
                    </a:lnTo>
                    <a:lnTo>
                      <a:pt x="6" y="158"/>
                    </a:lnTo>
                    <a:lnTo>
                      <a:pt x="0" y="120"/>
                    </a:lnTo>
                    <a:lnTo>
                      <a:pt x="4" y="73"/>
                    </a:lnTo>
                    <a:lnTo>
                      <a:pt x="7" y="74"/>
                    </a:lnTo>
                    <a:lnTo>
                      <a:pt x="16" y="33"/>
                    </a:lnTo>
                    <a:lnTo>
                      <a:pt x="52" y="20"/>
                    </a:lnTo>
                    <a:lnTo>
                      <a:pt x="90" y="11"/>
                    </a:lnTo>
                    <a:lnTo>
                      <a:pt x="129" y="3"/>
                    </a:lnTo>
                    <a:lnTo>
                      <a:pt x="127" y="5"/>
                    </a:lnTo>
                    <a:lnTo>
                      <a:pt x="167" y="0"/>
                    </a:lnTo>
                    <a:lnTo>
                      <a:pt x="210" y="0"/>
                    </a:lnTo>
                    <a:lnTo>
                      <a:pt x="246" y="2"/>
                    </a:lnTo>
                    <a:lnTo>
                      <a:pt x="285" y="8"/>
                    </a:lnTo>
                    <a:lnTo>
                      <a:pt x="319" y="17"/>
                    </a:lnTo>
                    <a:lnTo>
                      <a:pt x="321" y="18"/>
                    </a:lnTo>
                    <a:lnTo>
                      <a:pt x="355" y="33"/>
                    </a:lnTo>
                    <a:lnTo>
                      <a:pt x="388" y="54"/>
                    </a:lnTo>
                    <a:lnTo>
                      <a:pt x="415" y="79"/>
                    </a:lnTo>
                    <a:lnTo>
                      <a:pt x="440" y="109"/>
                    </a:lnTo>
                    <a:lnTo>
                      <a:pt x="455" y="142"/>
                    </a:lnTo>
                    <a:lnTo>
                      <a:pt x="466" y="172"/>
                    </a:lnTo>
                    <a:lnTo>
                      <a:pt x="468" y="202"/>
                    </a:lnTo>
                    <a:lnTo>
                      <a:pt x="470" y="229"/>
                    </a:lnTo>
                    <a:lnTo>
                      <a:pt x="464" y="267"/>
                    </a:lnTo>
                    <a:lnTo>
                      <a:pt x="460" y="282"/>
                    </a:lnTo>
                    <a:lnTo>
                      <a:pt x="454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Go Tell The Good News – Part 1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Quarter 11, Lesson 12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Acts 13:1-12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Pages 68-73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6418-2568-4130-94E5-F0B9CBD56050}" type="slidenum">
              <a:t>1</a:t>
            </a:fld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The First Missionary Journey</a:t>
            </a:r>
            <a:br>
              <a:rPr sz="36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cts 13:4-5</a:t>
            </a:r>
            <a:endParaRPr b="0" lang="en-US" sz="2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Guided by the Holy Spirit, Barnabas and Saul went down to Selucia, and from there sailed to Cypru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Cyprus’ chief cities were Salamis and Paphos on opposite ends of the island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In Salamis, they preached the word of God to the Jews having John Mark as a helper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AB2-F85F-444E-A177-B17C3F3FA62E}" type="slidenum">
              <a:t>10</a:t>
            </a:fld>
          </a:p>
        </p:txBody>
      </p:sp>
    </p:spTree>
  </p:cSld>
  <p:transition>
    <p:comb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The First Missionary Journey</a:t>
            </a:r>
            <a:br>
              <a:rPr sz="36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cts 13:6-8</a:t>
            </a:r>
            <a:endParaRPr b="0" lang="en-US" sz="2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When they had gone through the island to Paphos, they found a sorcerer, a false prophet, a Jew, named Bar-Jesu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Bar-Jesus had attached himself to Sergius Paulus, proconsul of the island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Sergius Paulus was an intelligent man who called for Barnabas and Saul 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Elymas (Bar-Jesus) withstood them, trying to turn the proconsul away from the faith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B52-D299-49FB-A2CB-230EEA586476}" type="slidenum">
              <a:t>11</a:t>
            </a:fld>
          </a:p>
        </p:txBody>
      </p:sp>
    </p:spTree>
  </p:cSld>
  <p:transition>
    <p:comb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The First Missionary Journey</a:t>
            </a:r>
            <a:br>
              <a:rPr sz="36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cts 13:9-12</a:t>
            </a:r>
            <a:endParaRPr b="0" lang="en-US" sz="2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Saul, hereafter called Paul,  filled with the Holy Spirit, looked intently at him 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Paul said to him: “O full of all deceit and fraud, you son of the devil, you enemy of all righteousness, will you not cease perverting the right ways of God?” 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Immediately a dark mist fell on him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hen the proconsul believed, being astonished at the teaching of the Lord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86D-0AB7-4EC5-A696-60619A51987C}" type="slidenum">
              <a:t>12</a:t>
            </a:fld>
          </a:p>
        </p:txBody>
      </p:sp>
    </p:spTree>
  </p:cSld>
  <p:transition>
    <p:comb dir="horz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-1440" y="0"/>
            <a:ext cx="11701080" cy="6872400"/>
            <a:chOff x="-1440" y="0"/>
            <a:chExt cx="11701080" cy="6872400"/>
          </a:xfrm>
        </p:grpSpPr>
        <p:grpSp>
          <p:nvGrpSpPr>
            <p:cNvPr id="178" name=""/>
            <p:cNvGrpSpPr/>
            <p:nvPr/>
          </p:nvGrpSpPr>
          <p:grpSpPr>
            <a:xfrm>
              <a:off x="-1440" y="0"/>
              <a:ext cx="11701080" cy="6872400"/>
              <a:chOff x="-1440" y="0"/>
              <a:chExt cx="11701080" cy="6872400"/>
            </a:xfrm>
          </p:grpSpPr>
          <p:pic>
            <p:nvPicPr>
              <p:cNvPr id="179" name="" descr=""/>
              <p:cNvPicPr/>
              <p:nvPr/>
            </p:nvPicPr>
            <p:blipFill>
              <a:blip r:embed="rId1"/>
              <a:srcRect l="0" t="212" r="0" b="-196"/>
              <a:stretch/>
            </p:blipFill>
            <p:spPr>
              <a:xfrm>
                <a:off x="-1440" y="0"/>
                <a:ext cx="9144000" cy="6872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5040" y="17640"/>
                <a:ext cx="11694600" cy="6368400"/>
                <a:chOff x="5040" y="17640"/>
                <a:chExt cx="11694600" cy="63684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657440" y="2298600"/>
                  <a:ext cx="149400" cy="17784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755360" y="2116080"/>
                  <a:ext cx="15422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Iconium</a:t>
                  </a:r>
                  <a:endParaRPr b="0" lang="en-US" sz="2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329520" y="3932280"/>
                  <a:ext cx="216000" cy="21600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280520" y="1663560"/>
                  <a:ext cx="32018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Antioch (Pisidian)</a:t>
                  </a:r>
                  <a:endParaRPr b="0" lang="en-US" sz="2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607800" y="3614760"/>
                  <a:ext cx="188208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Antioch</a:t>
                  </a:r>
                  <a:endParaRPr b="0" lang="en-US" sz="36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433520" y="2575080"/>
                  <a:ext cx="173160" cy="17280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564200" y="2562120"/>
                  <a:ext cx="10958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Lystra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800360" y="3003480"/>
                  <a:ext cx="13968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898280" y="2976480"/>
                  <a:ext cx="1044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Derbe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6005520" y="4167360"/>
                  <a:ext cx="330480" cy="2030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1357560" y="4395960"/>
                  <a:ext cx="4673520" cy="119376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flipV="1">
                  <a:off x="214560" y="5513400"/>
                  <a:ext cx="1092240" cy="1015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V="1">
                  <a:off x="163800" y="3026880"/>
                  <a:ext cx="7920" cy="235908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225720" y="2812680"/>
                  <a:ext cx="117360" cy="1681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 flipV="1">
                  <a:off x="1209600" y="1932120"/>
                  <a:ext cx="515880" cy="43488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371160" y="2023920"/>
                  <a:ext cx="839880" cy="6890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138320" y="1860480"/>
                  <a:ext cx="182520" cy="17316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85000" y="4162320"/>
                  <a:ext cx="407232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Mediterranean Sea</a:t>
                  </a:r>
                  <a:endParaRPr b="0" lang="en-US" sz="36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3280" y="5748480"/>
                  <a:ext cx="175716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Cyprus</a:t>
                  </a:r>
                  <a:endParaRPr b="0" lang="en-US" sz="36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024600" y="423720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150240" y="4286160"/>
                  <a:ext cx="1417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eleucia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224000" y="553248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426680" y="5581800"/>
                  <a:ext cx="1417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alamas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040" y="5456160"/>
                  <a:ext cx="21564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30680" y="5124600"/>
                  <a:ext cx="12801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aphos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05920" y="2914560"/>
                  <a:ext cx="11142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Attalia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1000" y="294156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88080" y="2523960"/>
                  <a:ext cx="10274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erga</a:t>
                  </a:r>
                  <a:endParaRPr b="0" lang="en-US" sz="2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62080" y="267984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99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1549440" y="2450880"/>
                  <a:ext cx="117720" cy="1681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flipV="1">
                  <a:off x="1519560" y="2698920"/>
                  <a:ext cx="320400" cy="3823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8320" y="3211560"/>
                  <a:ext cx="11461320" cy="106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fafd00"/>
                  </a:solidFill>
                  <a:custDash>
                    <a:ds d="499000" sp="201000"/>
                    <a:ds d="199000" sp="20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554360" y="17640"/>
                  <a:ext cx="45950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irst Missionary Journey</a:t>
                  </a:r>
                  <a:endParaRPr b="0" lang="en-US" sz="32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527440" y="353880"/>
                  <a:ext cx="2412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Acts 13 &amp; 14</a:t>
                  </a:r>
                  <a:endParaRPr b="0" lang="en-US" sz="32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054400" y="1351080"/>
                  <a:ext cx="401724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fafd00"/>
                      </a:solidFill>
                      <a:latin typeface="Times New Roman"/>
                    </a:rPr>
                    <a:t>Modern Day Turkey</a:t>
                  </a:r>
                  <a:endParaRPr b="0" lang="en-US" sz="36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3198960" y="5094360"/>
                  <a:ext cx="177840" cy="12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57280" y="5564160"/>
                  <a:ext cx="177840" cy="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163800" y="4471920"/>
                  <a:ext cx="0" cy="1526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386080" y="4154400"/>
                  <a:ext cx="127080" cy="1296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724360" y="6080040"/>
                  <a:ext cx="20073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99ffff"/>
                      </a:solidFill>
                      <a:latin typeface="Arial"/>
                    </a:rPr>
                    <a:t>Satellite Image - NASA</a:t>
                  </a:r>
                  <a:endParaRPr b="0" lang="en-US" sz="14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1" name=""/>
            <p:cNvSpPr/>
            <p:nvPr/>
          </p:nvSpPr>
          <p:spPr>
            <a:xfrm>
              <a:off x="-1440" y="73080"/>
              <a:ext cx="1689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©  EBibleTeacher.com  </a:t>
              </a:r>
              <a:endParaRPr b="0" lang="en-US" sz="1400" spc="-1" strike="noStrike">
                <a:solidFill>
                  <a:srgbClr val="99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67440" y="420480"/>
            <a:ext cx="1028520" cy="3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6666"/>
                </a:solidFill>
                <a:latin typeface="Arial Narrow"/>
              </a:rPr>
              <a:t>Paul-1st Missionary Journey</a:t>
            </a:r>
            <a:endParaRPr b="0" lang="en-US" sz="1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88280" y="6491160"/>
            <a:ext cx="860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Franklin Gothic Heavy"/>
                <a:hlinkClick r:id="rId2" action="ppaction://hlinksldjump"/>
              </a:rPr>
              <a:t>INDEX</a:t>
            </a:r>
            <a:endParaRPr b="0" lang="en-US" sz="18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A5D1-F784-43F0-8E31-B3022347FC16}" type="slidenum">
              <a:t>13</a:t>
            </a:fld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Saul of Tarsus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aul (Paul)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Preached in Syria, Asia Minor, Macedonia, Greece, Rome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Wrote 13 (maybe 14) of the letters of the New Testament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Born in Tarsus of Cilicia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Educated in Jerusalem under Gamalie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A Pharisee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A Roman citize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D2B-2151-488C-9E01-EFA7B4C6D9B9}" type="slidenum">
              <a:t>2</a:t>
            </a:fld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Saul of Tarsus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aul (Paul)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Led in the early persecution against the saint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Received permission from High Priest to go after Christians in other place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Converted in Damascu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Appointed to be a servant and a witness for the Lord  (especially to the Gentiles)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BB3-2049-45AE-83AC-B4B6B476D54E}" type="slidenum">
              <a:t>3</a:t>
            </a:fld>
          </a:p>
        </p:txBody>
      </p:sp>
    </p:spTree>
  </p:cSld>
  <p:transition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Saul, The Apostle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rst three years after his baptism: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Preached in Damascu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Went to Arabia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Preached in Damascus agai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Escaped a plot against his life (now on the receiving end of persecution)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Returned to Jerusalem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Barnabas told his story of conversion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Preached in Jerusalem 15 days until persecuted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Escaped to Tarsu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E65-8E18-4DDF-A416-6165420B5AFE}" type="slidenum">
              <a:t>4</a:t>
            </a:fld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3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52880" y="609480"/>
            <a:ext cx="38862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Barnabas and Saul spent a year working in Antioch.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Brethren in Antioch sent relief to poor brethren in Judea by the hand of Barnabas and Saul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When the task was finished, Barnabas and Saul</a:t>
            </a:r>
            <a:r>
              <a:rPr b="0" lang="en-US" sz="1800" spc="-1" strike="noStrike">
                <a:solidFill>
                  <a:srgbClr val="99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returned to Antioch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Saul was personally commissioned and qualified by Jesus Christ to be HIS Apostle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Barnabas would be an apostle (one sent) by the church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380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AD 44-45</a:t>
            </a:r>
            <a:endParaRPr b="0" lang="en-US" sz="24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193-BF4D-4A38-BBF7-376BA48230D2}" type="slidenum">
              <a:t>5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867280" y="228600"/>
            <a:ext cx="297180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The Call of Barnabas and Saul – Acts 13:1-3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4fd9b"/>
                </a:solidFill>
                <a:latin typeface="Times New Roman"/>
              </a:rPr>
              <a:t>Chosen by Spirit of God - 1-2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d9b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4fd9b"/>
                </a:solidFill>
                <a:latin typeface="Times New Roman"/>
              </a:rPr>
              <a:t>Supported by the church -3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They Sail to Cyprus – 13:4-12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4fd9b"/>
                </a:solidFill>
                <a:latin typeface="Times New Roman"/>
              </a:rPr>
              <a:t>Openness to God’s Word - 4-7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d9b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4fd9b"/>
                </a:solidFill>
                <a:latin typeface="Times New Roman"/>
              </a:rPr>
              <a:t>Opposition to God’s Word - 8-11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fd9b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4fd9b"/>
                </a:solidFill>
                <a:latin typeface="Times New Roman"/>
              </a:rPr>
              <a:t>Obedience to God’s Word - 12</a:t>
            </a:r>
            <a:endParaRPr b="0" lang="en-US" sz="2200" spc="-1" strike="noStrike">
              <a:solidFill>
                <a:srgbClr val="99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261-4C33-4205-832A-0535CE95B79C}" type="slidenum">
              <a:t>6</a:t>
            </a:fld>
          </a:p>
        </p:txBody>
      </p: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67C-49D8-4217-A1F2-4A41E24FBEB4}" type="slidenum">
              <a:t>7</a:t>
            </a:fld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493-9D15-493D-B9C8-AB4BC6854146}" type="slidenum">
              <a:t>8</a:t>
            </a:fld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The First Missionary Journey</a:t>
            </a:r>
            <a:br>
              <a:rPr sz="3600"/>
            </a:b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cts 13:1-3</a:t>
            </a:r>
            <a:endParaRPr b="0" lang="en-US" sz="2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he five men who worked as prophets and teachers at Antioch - Barnabas, Simeon, Lucius, Manaen, and Sau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Manaen was a childhood companion of Herod Antipas who beheaded John the Baptist and who Jesus appeared before during His tria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It was during these mens’ service to the Lord that the Holy Spirit said “Separate to me Barnabas and Saul for the work to which I have called them”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66D-66BC-4E54-BB26-6CCBB4DF7624}" type="slidenum">
              <a:t>9</a:t>
            </a:fld>
          </a:p>
        </p:txBody>
      </p:sp>
    </p:spTree>
  </p:cSld>
  <p:transition>
    <p:comb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6:23:45Z</dcterms:created>
  <dc:creator> Tab Vines</dc:creator>
  <dc:description/>
  <dc:language>en-US</dc:language>
  <cp:lastModifiedBy>Frank D Vines</cp:lastModifiedBy>
  <dcterms:modified xsi:type="dcterms:W3CDTF">2007-02-21T04:34:00Z</dcterms:modified>
  <cp:revision>14</cp:revision>
  <dc:subject/>
  <dc:title>Go Tell The Good News – Part 1</dc:title>
</cp:coreProperties>
</file>